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4E35-C104-43E5-A817-13E767FC30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C6F7-E5F0-4420-9FA9-3EF704E6D8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AE46-E6A2-45C5-B416-9CAE302FDC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1898-D1A2-4CDB-9482-48BA699B00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7CF-1317-4389-84E3-A2811E203F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CB5F-9F56-4D4F-8D0E-39C991C9CC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E20F-20FE-495D-A01B-8123CC1689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0BBA-6931-4A8F-9431-2C5F22AD4C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545-7A65-4E56-9B40-D4696227E3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60F-2BA0-4DF8-8F79-F4BB9BC60D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2CB-5F9C-49A7-9C28-D459790695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009-17B4-4381-B647-16BFFFDC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34A-A138-49B1-8B59-CB84F0E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4DE-1071-4296-A6A8-93EDA301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A02-9C4E-4E6D-89A4-9292C5AD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180-BD14-4F3D-8CF1-8DC1D57C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1A5-97E2-46BC-8E97-6CC9C4D4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255-7A2D-4984-BB10-77405AD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DDF-329F-49ED-8B05-7B6CE8E9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3B8-EACD-4FC0-875F-408B8C2E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46D-15C2-4673-BD1D-2095944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F94-E7E0-435D-A39E-73998120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D79-4682-4445-9C4D-7E51A7E9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9726-968A-4C03-B453-C14443750E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8320" y="47628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227640" y="5060880"/>
            <a:ext cx="27306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01520" y="51228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35000" y="1160640"/>
            <a:ext cx="22654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6948360" y="2274840"/>
            <a:ext cx="1719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114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26920" y="1971720"/>
            <a:ext cx="2127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4292280"/>
            <a:ext cx="4244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246720" y="2205000"/>
            <a:ext cx="2549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965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428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5T09:10:26Z</dcterms:modified>
  <cp:revision>37</cp:revision>
  <dc:subject/>
  <dc:title>People who change the world</dc:title>
</cp:coreProperties>
</file>